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596A4-281D-429C-BA2F-006880B29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12FDA-FC5D-4FCF-B47C-67E29E1A2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D1A16-A996-4A6F-899A-00782A499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14556-41BE-4CC5-B032-2BBDFF15B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3CCF17-370E-484C-85E7-9CCC629C47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BE50C-92EC-41FA-9693-CD1D72298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AF9D2-DC51-4B91-B1E7-7D00B9892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547A4-C9C0-40FA-B54C-B559E139A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3E2BB-B5B1-4B66-A180-D2E305102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37EC1-A73D-4932-8F0A-3D85F70D5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5A9A9-CA0F-4B56-A160-325C10860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1ABB6-0431-48E7-951D-31A9A8BCE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55CE9-2A49-4E47-B08C-18A915E2B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768CE-7482-40C3-A2C6-2506D64E2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9FEEF-F434-4BAD-B92B-6DC2D06D9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54932-27BA-4AC3-82D0-E1C127A7C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4085C-1082-4027-81D7-2E29DB178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6112B-F3A5-4B59-89EF-608D9356F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EBA56-53C0-4880-B6AE-587B55AB5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ADA19-5DF9-4110-9B66-84A07017D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D3D65-6A98-4862-B58E-19EB6A41D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7C204-B3D1-4A45-B388-3DE99AE8B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FAEAF-62BF-472E-A2A2-B05732E35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EEEB5-4AAE-4C11-B833-2B7AE3767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ED2AE-9CD1-46C4-ACAE-80C29E18970A}"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E60B-3F1A-40A2-92D9-350E4D6318D9}"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300" spc="-1" strike="noStrike">
              <a:solidFill>
                <a:srgbClr val="ffffcc"/>
              </a:solidFill>
              <a:latin typeface="Arial"/>
            </a:endParaRPr>
          </a:p>
        </p:txBody>
      </p:sp>
      <p:sp>
        <p:nvSpPr>
          <p:cNvPr id="115" name="PlaceHolder 2"/>
          <p:cNvSpPr>
            <a:spLocks noGrp="1"/>
          </p:cNvSpPr>
          <p:nvPr>
            <p:ph type="subTitle"/>
          </p:nvPr>
        </p:nvSpPr>
        <p:spPr>
          <a:xfrm>
            <a:off x="1752480" y="3428640"/>
            <a:ext cx="6400800" cy="16765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Unit Portfolio Presentation</a:t>
            </a: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Kate Yaun </a:t>
            </a: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Kathy Kellner</a:t>
            </a:r>
            <a:endParaRPr b="0" lang="en-US" sz="24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it Summary</a:t>
            </a:r>
            <a:endParaRPr b="0" lang="en-US" sz="4400" spc="-1" strike="noStrike">
              <a:solidFill>
                <a:srgbClr val="ffffcc"/>
              </a:solidFill>
              <a:latin typeface="Arial"/>
            </a:endParaRPr>
          </a:p>
        </p:txBody>
      </p:sp>
      <p:sp>
        <p:nvSpPr>
          <p:cNvPr id="117" name=""/>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PlaceHolder 2"/>
          <p:cNvSpPr>
            <a:spLocks noGrp="1"/>
          </p:cNvSpPr>
          <p:nvPr>
            <p:ph/>
          </p:nvPr>
        </p:nvSpPr>
        <p:spPr>
          <a:xfrm>
            <a:off x="1599840" y="1447560"/>
            <a:ext cx="7162920" cy="4530600"/>
          </a:xfrm>
          <a:prstGeom prst="rect">
            <a:avLst/>
          </a:prstGeom>
          <a:noFill/>
          <a:ln w="0">
            <a:noFill/>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Great Bean Race is on! Compete with classrooms from other regions to see which collaborative team can grow the tallest bean plant. Controlling for certain variables (including growth time and bean seeds), seven or eight teams in each classroom design and conduct a controlled bean-plant experiment to investigate ideal conditions for growth. Students synthesize bean-plant information into a newsletter that describes the project, their group bean plan, and facts about beans.</a:t>
            </a:r>
            <a:endParaRPr b="0" lang="en-US" sz="28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urriculum-Framing Questions</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Essential Question </a:t>
            </a:r>
            <a:br>
              <a:rPr sz="2400"/>
            </a:br>
            <a:r>
              <a:rPr b="0" lang="en-US" sz="2400" spc="-1" strike="noStrike">
                <a:solidFill>
                  <a:srgbClr val="eaeaea"/>
                </a:solidFill>
                <a:latin typeface="Verdana"/>
              </a:rPr>
              <a:t>Are all living things related</a:t>
            </a:r>
            <a:r>
              <a:rPr b="0" lang="en-US" sz="2000" spc="-1" strike="noStrike">
                <a:solidFill>
                  <a:srgbClr val="eaeaea"/>
                </a:solidFill>
                <a:latin typeface="Verdana"/>
              </a:rPr>
              <a:t>?</a:t>
            </a:r>
            <a:endParaRPr b="0" lang="en-US" sz="20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Unit Questions</a:t>
            </a:r>
            <a:br>
              <a:rPr sz="2400"/>
            </a:br>
            <a:r>
              <a:rPr b="0" lang="en-US" sz="1800" spc="-1" strike="noStrike">
                <a:solidFill>
                  <a:srgbClr val="eaeaea"/>
                </a:solidFill>
                <a:latin typeface="Verdana"/>
              </a:rPr>
              <a:t>How do living things grow in different ways?</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How can I manipulate technology to document a life cycle?</a:t>
            </a:r>
            <a:endParaRPr b="0" lang="en-US" sz="18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How do they compare to one another?</a:t>
            </a:r>
            <a:r>
              <a:rPr b="1" lang="en-US" sz="2400" spc="-1" strike="noStrike">
                <a:solidFill>
                  <a:srgbClr val="eaeaea"/>
                </a:solidFill>
                <a:latin typeface="Verdana"/>
              </a:rPr>
              <a:t> </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Content Questions</a:t>
            </a:r>
            <a:endParaRPr b="0" lang="en-US" sz="24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is a life cycle of a butterfly?</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is the life cycle of a frog?</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is the life cycle of a dragonfly?</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do sea turtles grow and chang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can be used to measure the life cycl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much time does a life cycle take?</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an Race Project</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1065240"/>
          </a:xfrm>
          <a:prstGeom prst="rect">
            <a:avLst/>
          </a:prstGeom>
          <a:noFill/>
          <a:ln w="0">
            <a:noFill/>
          </a:ln>
        </p:spPr>
        <p:txBody>
          <a:bodyPr lIns="90000" rIns="90000" tIns="46800" bIns="46800" anchor="t">
            <a:normAutofit fontScale="99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project will help my students develop 21</a:t>
            </a:r>
            <a:r>
              <a:rPr b="0" lang="en-US" sz="3200" spc="-1" strike="noStrike" baseline="30000">
                <a:solidFill>
                  <a:srgbClr val="eaeaea"/>
                </a:solidFill>
                <a:latin typeface="Verdana"/>
              </a:rPr>
              <a:t>st</a:t>
            </a:r>
            <a:r>
              <a:rPr b="0" lang="en-US" sz="3200" spc="-1" strike="noStrike">
                <a:solidFill>
                  <a:srgbClr val="eaeaea"/>
                </a:solidFill>
                <a:latin typeface="Verdana"/>
              </a:rPr>
              <a:t> century skills by:</a:t>
            </a:r>
            <a:endParaRPr b="0" lang="en-US" sz="3200" spc="-1" strike="noStrike">
              <a:solidFill>
                <a:srgbClr val="eaeaea"/>
              </a:solidFill>
              <a:latin typeface="Verdana"/>
            </a:endParaRPr>
          </a:p>
        </p:txBody>
      </p:sp>
      <p:sp>
        <p:nvSpPr>
          <p:cNvPr id="124" name=""/>
          <p:cNvSpPr/>
          <p:nvPr/>
        </p:nvSpPr>
        <p:spPr>
          <a:xfrm>
            <a:off x="1523880" y="2666880"/>
            <a:ext cx="7239240" cy="21132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llaborating with peers.</a:t>
            </a:r>
            <a:endParaRPr b="0" lang="en-US" sz="2400" spc="-1" strike="noStrike">
              <a:solidFill>
                <a:srgbClr val="eaeaea"/>
              </a:solidFill>
              <a:latin typeface="Arial"/>
            </a:endParaRPr>
          </a:p>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alyzing data about lifecycles and being able to present them to a selected audience.</a:t>
            </a:r>
            <a:endParaRPr b="0" lang="en-US" sz="2400" spc="-1" strike="noStrike">
              <a:solidFill>
                <a:srgbClr val="eaeaea"/>
              </a:solidFill>
              <a:latin typeface="Arial"/>
            </a:endParaRPr>
          </a:p>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mmunicating with others in a newsletter.</a:t>
            </a:r>
            <a:endParaRPr b="0" lang="en-US" sz="2400" spc="-1" strike="noStrike">
              <a:solidFill>
                <a:srgbClr val="eaeaea"/>
              </a:solidFill>
              <a:latin typeface="Arial"/>
            </a:endParaRPr>
          </a:p>
          <a:p>
            <a:pPr marL="231840" indent="-231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53960" y="325080"/>
            <a:ext cx="718056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auging Student Needs Assessment</a:t>
            </a:r>
            <a:endParaRPr b="0" lang="en-US" sz="3600" spc="-1" strike="noStrike">
              <a:solidFill>
                <a:srgbClr val="ffffcc"/>
              </a:solidFill>
              <a:latin typeface="Arial"/>
            </a:endParaRPr>
          </a:p>
        </p:txBody>
      </p:sp>
      <p:sp>
        <p:nvSpPr>
          <p:cNvPr id="126" name=""/>
          <p:cNvSpPr/>
          <p:nvPr/>
        </p:nvSpPr>
        <p:spPr>
          <a:xfrm>
            <a:off x="1371600" y="1295280"/>
            <a:ext cx="7162920" cy="585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Purpose of the Assessment</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To gather information about what students already know and what they wonder about growing plants.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I want to learn from my student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ant to find out what they already know about the Unit Questions and what they know about setting up experiment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I have tried to promote higher-order thinking?</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ask students to find relationships and draw conclusions about growing plant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the assessment information helps me and my students plan for upcoming activities in the unit?</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f students have misconceptions about  how to set up experiments, I can provide scaffolds. If students have different levels of understanding about the importance of plants, I can provide various resources. We will revisit this assessment throughout the unit for students to add their knowledg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feedback or additional ideas I’d lik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ould like help on my assessment. I think I need to elicit more higher-order thinking, but I’m not sure how.</a:t>
            </a:r>
            <a:endParaRPr b="0" lang="en-US" sz="1800" spc="-1" strike="noStrike">
              <a:solidFill>
                <a:srgbClr val="eaeaea"/>
              </a:solidFill>
              <a:latin typeface="Arial"/>
            </a:endParaRPr>
          </a:p>
        </p:txBody>
      </p:sp>
      <p:graphicFrame>
        <p:nvGraphicFramePr>
          <p:cNvPr id="127" name=""/>
          <p:cNvGraphicFramePr/>
          <p:nvPr/>
        </p:nvGraphicFramePr>
        <p:xfrm>
          <a:off x="7696080" y="762120"/>
          <a:ext cx="914400" cy="714240"/>
        </p:xfrm>
        <a:graphic>
          <a:graphicData uri="http://schemas.openxmlformats.org/presentationml/2006/ole">
            <p:oleObj progId="Word.Document.12" r:id="rId1" spid="">
              <p:embed/>
              <p:pic>
                <p:nvPicPr>
                  <p:cNvPr id="128" name="" descr=""/>
                  <p:cNvPicPr/>
                  <p:nvPr/>
                </p:nvPicPr>
                <p:blipFill>
                  <a:blip r:embed="rId2"/>
                  <a:stretch/>
                </p:blipFill>
                <p:spPr>
                  <a:xfrm>
                    <a:off x="7696080" y="7621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nd ways to get my students more interested in learning scienc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earn about different kinds of technology my students and I can use</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0" name="PlaceHolder 2"/>
          <p:cNvSpPr>
            <a:spLocks noGrp="1"/>
          </p:cNvSpPr>
          <p:nvPr>
            <p:ph type="title"/>
          </p:nvPr>
        </p:nvSpPr>
        <p:spPr>
          <a:xfrm>
            <a:off x="1130040" y="301320"/>
            <a:ext cx="740412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y Goals for the Course</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53960" y="507600"/>
            <a:ext cx="718056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oals for My Students </a:t>
            </a:r>
            <a:endParaRPr b="0" lang="en-US" sz="4400" spc="-1" strike="noStrike">
              <a:solidFill>
                <a:srgbClr val="ffffcc"/>
              </a:solidFill>
              <a:latin typeface="Arial"/>
            </a:endParaRPr>
          </a:p>
        </p:txBody>
      </p:sp>
      <p:sp>
        <p:nvSpPr>
          <p:cNvPr id="132" name="PlaceHolder 2"/>
          <p:cNvSpPr>
            <a:spLocks noGrp="1"/>
          </p:cNvSpPr>
          <p:nvPr>
            <p:ph/>
          </p:nvPr>
        </p:nvSpPr>
        <p:spPr>
          <a:xfrm>
            <a:off x="1371600" y="1905120"/>
            <a:ext cx="72388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ork together to create a presentation appropriate for a selected audience.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ather, analyze, organize, reflect, and process information about a specific life cycle.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mpare data about selected life cycles with other students, through graphic organizers, charts or other visual aids.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ake connections between themselves, and the lifecycles of other organisms in our world.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quest for Feedback</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laces I could find a classroom in a different climate for my students to work with</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helping students take more responsibility for their own learning</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kkellner</cp:lastModifiedBy>
  <dcterms:modified xsi:type="dcterms:W3CDTF">2010-06-30T12:37:50Z</dcterms:modified>
  <cp:revision>17</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